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1C2-B7C3-45D4-A7F6-BF7A91F5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383-B8AD-4C0B-8183-FBA826EA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488-31E9-4A94-AF10-24217DF9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FEB-15B1-45B5-A9A8-96A0CE7A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F30D-5BC2-443C-B521-73F7FBC5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181E-457A-4C2A-90D1-22B2FD6D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E04B-B727-4BE4-BDC6-27354A7D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3582-DEA8-436A-B717-242ED2DE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62B2-C420-41E9-A27E-EC5B0A16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4598-DC08-4E02-AB00-ECE5A1C8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516E-81B2-42C4-85A4-3A754DBA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D46-A7AC-4BB0-8D5B-ABF39F97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0770-F0D8-4B43-8FAF-8E68B1EA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EFB1-04E2-4647-9D42-FFC4416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17F5-E9A9-49C0-9F61-60F0F5B8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DA8A-9686-4CAF-B48E-BA5316F6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FF22-EA17-4007-B82A-664EF189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C2DE-C93C-41FE-BF19-25F514AE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6A19-854A-4D01-9F25-65B2BD88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F402-F2FB-4853-807D-8B6141E6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64CD-969B-4EB6-8EFE-E16EA209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9ADF-ECC4-403F-93DC-3AE7058E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948-4939-4E52-B3F4-C2B60779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0B7F-2DBC-40B9-97C1-2C0B830E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85F7-835C-4098-8C99-BABE2068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66A72-0E93-412F-BA57-B43BEFD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9D76-E9C8-4E66-A7F5-20C141E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ED5B-AA8C-4EBD-B127-3D5BD3A7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41BD-A931-48CC-855E-6D42E6A8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0A1C-0329-4473-B01C-A3E48F29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7668-9E8B-45FF-B36A-2B0FD163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4AE0-EE2C-4167-9E06-DA6CBCB2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A95D-2995-450B-88BE-5853F6BB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174-735E-4113-9667-7C5D5EF7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43B04-C8D0-4F8F-ABA7-B189927C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39373-AC12-4EF2-805B-82C220DE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86150-DC3B-4476-A25B-5C5A0649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F5AA1-8389-4CDC-BB3A-4D6DCDC1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37D7B-1B76-4508-9665-20CB41F9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3C0E-47E6-4DB4-B7BE-BFF9E181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C4C60-EB16-4B40-88B7-F23EF76F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8F85-9F31-4CB2-BD75-0CC1103B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56A7-AB90-4D1E-BF4F-8E3C720A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935E4-78CA-40A9-B54D-ED600710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2AD-EEEB-45AD-8436-4DD2B257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79AEB-EE4C-4A64-9D5D-E1EED2E6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4DB71-7026-435A-8C75-D2E441AE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BD386-DCAE-42BC-ADAA-E54B9079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2383E-6417-4B42-A87F-49F75E14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0619-6254-4A8E-A06B-B16D9C5D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DB9C4-CEB5-45C2-94DE-085F3E9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906F2-A1C3-4EF6-9852-74C23B89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6F0BA-C101-4F36-A927-35004EBE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0A05F-A6E1-475C-89DC-D9266400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157FA-C779-41A4-9A0C-B8D061A1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C21-A9A3-435A-9604-94B5422D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51DBE-F349-4D07-972D-4FF20D64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D9246-B554-4042-B8F1-24A69EDA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4B406-14B9-45F7-8A87-555A04CD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79A1A-36D2-471B-9EC3-99A33CB0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6EE76-8A01-4417-85BA-D87DDE77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186E9-6E44-4863-83F7-121AD3E3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05E55-8BE5-41BA-B3E8-9BB387E1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75932-4772-4BB2-BB05-20268650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E83F0-4981-4471-AE22-4EDB0C86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0C605-5BFD-4A67-8CBC-9290ACA0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8A9-0952-43DF-B0AE-CF22B0F2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E0136-0BDB-43F5-AF24-6FEEB743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1949E-B9E4-41F4-B0B8-BFDB0607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EBF5B-F7BE-4011-8035-790F091A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40B5F-D3D4-4664-8B58-E5D3516A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83A70-EB4F-4A65-932A-057C25F8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E4AEB-8D2B-4425-9554-25E297BA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67C0F-89EF-40EC-8C05-EBA4F447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081E-02BB-4920-9CE2-B75BB81C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BAA4E-590D-452F-9D0A-AC33EE1E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D0DC2-A0D6-4AE7-87AB-90FF5E7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D06-C655-41C7-9F1A-0F9116B3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C3BD8-F684-4903-B870-2EB3E70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F4ADD-0459-43D3-BCBB-AF7E284F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D7449-5C8F-48FB-88CD-FAD13ECF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CF57C-6E23-41B7-919B-38B2EFB5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B7FD0-5F1D-4A33-A702-59D71E5C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97F83-A719-4A3B-9508-44F4F07F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9C9CA-AB7D-4BC0-933D-987E331D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C3264-2B3A-4357-8EAC-39188271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C720F-8725-4EDB-A9DE-265C258E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3B36F-3B4E-42DC-9096-82EAB11A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618-9752-40FB-8F9F-F50F347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71369-6D56-4E28-B593-34DF7E50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A01FC-A125-4EE2-9494-E70FCD62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61037-F9EC-493A-BB93-95ACB63A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15FB0-F4C1-42D3-A24E-EC14D6E3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2857E-EED2-4F2C-8E28-C0ABFACB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2C288-14D5-44E9-A137-BC63CB85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D2578-0D43-4320-AC2F-636E77F1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8ED1-A59B-42ED-BE1C-F7E73E7A89B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EFCB-1D1A-4524-B138-60EB062269E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633B-56C8-4A9F-9E9D-A0DAFC3EBDD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89E-6C43-4A59-8C15-13E393E3B6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0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9CF1-4147-4D9F-A8D3-F9DE3FD64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C45-EF66-43EE-AC32-FA8E26E3A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3426-6AD1-4CEA-A2FD-39EB038117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4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91C-94D8-4983-940E-0F0542848E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exsey chernof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2257560"/>
            <a:ext cx="793296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Hola Madre y padre a hablar sobre vacation en Andor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590560" y="228600"/>
            <a:ext cx="472428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Mi vacation la Andorr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6765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hotel me fui es Andorra Cen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93" name="" descr="Andorra Center"/>
          <p:cNvPicPr/>
          <p:nvPr/>
        </p:nvPicPr>
        <p:blipFill>
          <a:blip r:embed="rId1"/>
          <a:stretch/>
        </p:blipFill>
        <p:spPr>
          <a:xfrm rot="1323000">
            <a:off x="5866920" y="1142640"/>
            <a:ext cx="2971800" cy="2133720"/>
          </a:xfrm>
          <a:prstGeom prst="rect">
            <a:avLst/>
          </a:prstGeom>
          <a:ln w="38160">
            <a:solidFill>
              <a:srgbClr val="2044f6"/>
            </a:solidFill>
            <a:miter/>
          </a:ln>
        </p:spPr>
      </p:pic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 rot="20403000">
            <a:off x="609120" y="1142640"/>
            <a:ext cx="3314880" cy="2209680"/>
          </a:xfrm>
          <a:prstGeom prst="rect">
            <a:avLst/>
          </a:prstGeom>
          <a:ln w="28440">
            <a:solidFill>
              <a:srgbClr val="07fb18"/>
            </a:solidFill>
            <a:miter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4991040" cy="18064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la madre y pad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hotel tiene una grande piscina y todo es muy grande. Las habitaciones son impresionantes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"/>
          <p:cNvSpPr/>
          <p:nvPr/>
        </p:nvSpPr>
        <p:spPr>
          <a:xfrm>
            <a:off x="152280" y="15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rido madre y pad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y hace tiempo bien y el sol brilla. Fui a la playa. La playa es excelente. Fui practicar el surfing con el mono. El surfing dur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la Joh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y es gran. Yo relajarse en la playa. Yo se un quemadurad el sol. Lo dano muco en mi cuerpo. Hasta lueg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1:32Z</dcterms:created>
  <dc:creator>chernoffale</dc:creator>
  <dc:description/>
  <dc:language>en-US</dc:language>
  <cp:lastModifiedBy>chernoffale</cp:lastModifiedBy>
  <dcterms:modified xsi:type="dcterms:W3CDTF">2011-11-30T14:26:14Z</dcterms:modified>
  <cp:revision>15</cp:revision>
  <dc:subject/>
  <dc:title>hotel</dc:title>
</cp:coreProperties>
</file>